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4F0-4088-4890-8680-459E3FAE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43B-17FC-4B67-9636-814B7A7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9E7-697B-4FDC-BCAC-2C8EB5F0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336-87D7-4DCB-870B-7E8ADBFF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9E8-C211-4BA9-9ABE-CFFC34D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30A-763B-41C2-83FB-F0F5FA6D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F69-7E47-475E-AFA5-1E58764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EFE-6F44-405E-B1B7-078E2E1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FC3-29FC-48D9-BAAC-3849837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D94-5467-4E84-B2CA-B89F49D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C86-FA6B-4B46-A37C-8BA9FE9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5FE-E53C-4FBB-A0B5-AA68E3E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18D-D11F-4807-BCCF-45ECAFA6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22 de septiem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racticamos para la Prueba del Repaso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hicos no ________ para el examen. 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s ________ una prueba. 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muchos lápices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___ italiano. 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el programa de televisión. (mi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_ ustedes al profesor? 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dentifica el lu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sus materiales escola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toman el almuer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de los alumnos compran la ropa que necesitan par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nde tienen que ir los alumnos para pag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llevar sus libros y materiales escolares a la escu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 que usan los alumnos para tomar apuntes en cl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Write the name of five col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756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pia y completa con la forma correcta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español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atención cuando el profesor _______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estar, 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 mucho en la clase de españ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muchos apunt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_______ un examen y los alumnos __________ el examen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___________ ustedes español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 cursos _________ (tú) y cuantos __________ tus amig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mar, to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epaso Gramatical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17226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poder hacer preguntas necesitamos las PALABRAS INTERROGATIV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order to answer questions, we need interrogative wor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pañol, siempre debemos usar 2 signos de interrogaci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Spanish, we must always use 2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labras Interrogativas</a:t>
            </a:r>
            <a:br>
              <a:rPr sz="44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Question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76720" y="167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o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76720" y="220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at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14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n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352680" y="3424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ere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352680" y="3957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429000" y="4567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y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29000" y="5100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Whi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505320" y="5710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ow much…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ALABRAS INTERROG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4:21Z</dcterms:created>
  <dc:creator>Helen Zumaeta</dc:creator>
  <dc:description/>
  <dc:language>en-US</dc:language>
  <cp:lastModifiedBy>Helen Zumaeta</cp:lastModifiedBy>
  <cp:lastPrinted>2014-09-22T12:51:30Z</cp:lastPrinted>
  <dcterms:modified xsi:type="dcterms:W3CDTF">2014-09-22T22:16:54Z</dcterms:modified>
  <cp:revision>15</cp:revision>
  <dc:subject/>
  <dc:title>Me llamo _______ Clase 6 nh/il La fecha es 10 de febrero del 2011</dc:title>
</cp:coreProperties>
</file>